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AD9-3B43-4767-83F0-FB6E6764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916C-077B-41BB-8E90-26C68209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AA8-1A5C-4472-99D8-54537661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5BA-E67F-4563-AA21-75BC7C58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C886-DA03-47F6-B82B-EDDB4EDB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591F-35FE-4D8E-944B-12044E8D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E4DD-38C7-4B0F-9D4E-884B6ACD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E2B1-25A6-4B9B-8765-91520719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6F38-0487-4CBE-8419-F6E94BCE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9B3C-5D9C-48E6-9567-1E97EBAB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0AFA-6932-4099-BCD1-182229E9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3230-2153-4A8E-96CE-F1B0C158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4378-F9F2-43E0-A4A7-CD32F0AC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595C-B095-4788-9FD5-9FD97708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24C1-6A06-4BAE-A88D-5F4F35D0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0E36-9FC4-4376-AA13-38377996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5D00-57F9-40BA-A9CC-716DDBA9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8837-9BF0-4964-85D6-4E15B9F5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AEE2-F8BC-4675-9D57-45EBF78E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03A7-A74A-47E0-8044-02C83E7A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72A6-85B7-42EA-832B-31D79F21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95A-4499-4F1A-925D-15751FE5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9FA9-576D-48E1-A83A-2935225D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923-16A2-4822-A631-DEF3A224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32d9f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d9fa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d9f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32d9f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d9fa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DB03-9F39-44D5-A4FA-763219CF541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32d9f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d9f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50000">
                  <a:srgbClr val="00ccff"/>
                </a:gs>
                <a:gs pos="100000">
                  <a:srgbClr val="7850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785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100000">
                  <a:srgbClr val="66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d9f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32d9f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d9fa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D7A9-9242-48F9-85D9-2114756FD5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dd7df"/>
                </a:solidFill>
                <a:latin typeface="Tahoma"/>
              </a:rPr>
              <a:t>Chapter 21: The Kennedy and Johnson Years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Katy Zerbe and Sherry Seam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Tragedy in Dallas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resident Kennedy had been fatally shot in Dallas while riding in a motorcade on November 22, 1963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Vice President  Lyndon Johnson was sworn in almost immediately as presid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ee Harvey Oswald was charged with the murd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swald was later killed by Jack Ruby, a nightclub own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The Great Society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Johnson moved quickly to push Kennedy initiatives, including the Civil Rights Act, through Congress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He launched his war on poverty with the Economic Opportunity Act, the most ambitious attempt to aid the poor in the nation’s history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It established volunteers in Service to America (VISTA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The act also funded Project Head Start, to give preschoolers from disadvantaged families a leg up on elementary educatio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38224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1964 election, Johnson defeated Arizona Senator Barry Gold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care was one of the most significant pieces of legis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federally funded health care for the elder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Success and Limitations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son’s Great Society program of social and political reform was often compared with Roosevelt’s New D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oals of the two were differ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Society was more successful in creating legislative programs than in implementing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underfunded, partly because of the cost of the Vietnam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112680"/>
            <a:ext cx="845820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991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The New Frontier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nedy instilled Americans with renewed ideal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w Frontier became the label for Kennedy’s vision of progress at h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not an organized set of legislative initiatives like Roosevelt’s New D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nedy reacted to events such as civil rights disturbances, instead of blazing new trai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The Kennedy Aura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Kennedy image captivated the med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said that Kennedy and his wife were the most attractive people to have lived in the white h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urged publicists, magazines, networks, and photograp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considered JFK a hero, and others distrusted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Kennedy’s Working Style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journalist noted that Kennedy’s team was “the best and the brightes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were educated at top Eastern scho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nedy and his team were trying to strengthen public program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interests were centered on foreign policy; the cold war and the containment of commun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381880" cy="57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ugust 1961, Communists built a wall between East Berlin and West Berlin to prevent East Germans from fleeing to the w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nnedy saw himself as more as a pragmatist (someone interested in practical solutions to problems than as a liber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said most of the nation’s problems were technical and administr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The Space Race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ing the early 1960’s, a nation’s accomplishments in space became a test of leadership in technology and defe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May 1961, Kennedy asked Congress for a commitment to the goal of “landing a man on the moon and returning him safely to earth” before 19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SA developed a three step program to put Americans in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381880" cy="57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stage, Project Mercury, consisted of a series of test fl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 Gemini launched a series of flights in which two man teams practiced maneuvering spacecraft while orbiting the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pollo program began in 1968 and would accomplish the goal of a moon l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Programs at Home and Abroad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nedy’s efforts to perk up the economy largely succ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rea Redevelopment Act channeled funds into needy reg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gress raised minimum wage from $1 to $1.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ing his administration, Kennedy initiated several programs for international 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eace Corps sent volunteers to developing countries, where they lived with the locals and assisted in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3818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it’s first 34 years, the Peace Corps sent 140,000 volunteers to 100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gram still continues to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5:57:43Z</dcterms:created>
  <dc:creator>ASD</dc:creator>
  <dc:description/>
  <dc:language>en-US</dc:language>
  <cp:lastModifiedBy>ASD</cp:lastModifiedBy>
  <dcterms:modified xsi:type="dcterms:W3CDTF">2010-07-07T21:00:59Z</dcterms:modified>
  <cp:revision>5</cp:revision>
  <dc:subject/>
  <dc:title>Chapter 21: The Kennedy and Johnson Years</dc:title>
</cp:coreProperties>
</file>